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9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C2A64-21EB-477F-AB1B-8543CF89A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C400B-7584-4655-9F01-A5782E1A8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3D3FD-0206-4D58-B86C-2BE2154AD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CD10B-3AFF-49CC-A921-ECCC1862E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DD5AD-D90D-4E72-A956-5A398453D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43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D4107-9619-4C11-8933-0FE6D43F7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E8875-DBA8-46DA-B8D3-5EB92DADC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DD8B1-58B3-4442-979D-3E684128C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81F08-D130-4717-B45E-BB5BDE4A4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304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43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BD86B-D266-4A6E-892E-20E99EBE9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714BA-A22B-4701-8FD4-1E04DD37C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43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BFC1F-1198-436D-ACB4-CB4BD98FE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13723-A16B-4423-9793-9F2ECFA3D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8A4CC-7349-42F8-9DEC-974012186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49574-9F91-4A2D-8C1B-464C3DBA0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7D80B-0404-433B-B9CB-E4359C8A0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28A74-2D9D-4C03-8FCE-EF252846E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BC7147-71A9-4508-9571-10B758C91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43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76FCD8-090F-403D-A4C7-3486670B1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DA68AC-4509-4D6C-B078-B57012201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CD8A31-B7CC-40C6-81D3-6AD504F9D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865D9C-E3F6-4236-922B-A7C794AD2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25032-D3D7-4EF8-87F4-9CAA8425B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57200" y="304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43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E64D90-2497-403F-8EB6-D17DA7612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C8E631-6865-4988-BE66-F12ACEDD1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D43D7B-0615-486D-802E-7E0B91C67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C9043A-4EA6-4E92-82EF-9BE6632E9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4DF179-44AC-4820-A700-CB8C20DFA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11E773-D385-429A-AA0B-5784328E6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A63C7A-3545-4B70-B1A4-47B60DB8E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02554-10C9-4BD5-BF2C-313FF0D2C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E4C4F-50B0-419C-BB99-8860B25A5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04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43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202DE-8073-4040-9E33-264860170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2E507-8A85-4C15-BBF0-76C63E510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46C37-7345-416A-B8B1-AD7318946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1808A-09F0-4429-9A2B-0E6BBAA92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ounded Rectangle 8"/>
          <p:cNvGrpSpPr/>
          <p:nvPr/>
        </p:nvGrpSpPr>
        <p:grpSpPr>
          <a:xfrm>
            <a:off x="262080" y="195120"/>
            <a:ext cx="8619840" cy="6559560"/>
            <a:chOff x="262080" y="195120"/>
            <a:chExt cx="8619840" cy="6559560"/>
          </a:xfrm>
        </p:grpSpPr>
        <p:pic>
          <p:nvPicPr>
            <p:cNvPr id="1" name="Rounded Rectangle 8" descr=""/>
            <p:cNvPicPr/>
            <p:nvPr/>
          </p:nvPicPr>
          <p:blipFill>
            <a:blip r:embed="rId3"/>
            <a:stretch/>
          </p:blipFill>
          <p:spPr>
            <a:xfrm>
              <a:off x="262080" y="195120"/>
              <a:ext cx="8619840" cy="655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84120" y="270000"/>
              <a:ext cx="8375760" cy="63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300" spc="-1" strike="noStrike">
                <a:solidFill>
                  <a:srgbClr val="171b73"/>
                </a:solidFill>
                <a:latin typeface="Bodoni MT"/>
              </a:rPr>
              <a:t>Click to edit the title text format</a:t>
            </a: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457200" indent="-272880">
              <a:spcBef>
                <a:spcPts val="700"/>
              </a:spcBef>
              <a:buClr>
                <a:srgbClr val="ff8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58880" indent="-228600">
              <a:spcBef>
                <a:spcPts val="700"/>
              </a:spcBef>
              <a:buClr>
                <a:srgbClr val="804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31760" indent="-228600">
              <a:spcBef>
                <a:spcPts val="700"/>
              </a:spcBef>
              <a:buClr>
                <a:srgbClr val="c43d1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297080" indent="-228600">
              <a:spcBef>
                <a:spcPts val="700"/>
              </a:spcBef>
              <a:buClr>
                <a:srgbClr val="b42469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554120" indent="-228600">
              <a:spcBef>
                <a:spcPts val="700"/>
              </a:spcBef>
              <a:buClr>
                <a:srgbClr val="7b309b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554120" indent="-22860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554120" indent="-22860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15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889a7"/>
                </a:solidFill>
                <a:latin typeface="Verdana"/>
                <a:ea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889a7"/>
                </a:solidFill>
                <a:latin typeface="Verdana"/>
                <a:ea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15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15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889a7"/>
                </a:solidFill>
                <a:latin typeface="Verdana"/>
                <a:ea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897BA-AD41-4DD7-AC83-3F184C43A93F}" type="slidenum">
              <a:rPr b="0" lang="en-US" sz="1000" spc="-1" strike="noStrike">
                <a:solidFill>
                  <a:srgbClr val="8889a7"/>
                </a:solidFill>
                <a:latin typeface="Verdana"/>
                <a:ea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cd862"/>
            </a:gs>
            <a:gs pos="100000">
              <a:srgbClr val="ecd8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ounded Rectangle 7"/>
          <p:cNvGrpSpPr/>
          <p:nvPr/>
        </p:nvGrpSpPr>
        <p:grpSpPr>
          <a:xfrm>
            <a:off x="609480" y="457200"/>
            <a:ext cx="7925040" cy="6035760"/>
            <a:chOff x="609480" y="457200"/>
            <a:chExt cx="7925040" cy="6035760"/>
          </a:xfrm>
        </p:grpSpPr>
        <p:pic>
          <p:nvPicPr>
            <p:cNvPr id="45" name="Rounded Rectangle 7" descr=""/>
            <p:cNvPicPr/>
            <p:nvPr/>
          </p:nvPicPr>
          <p:blipFill>
            <a:blip r:embed="rId2"/>
            <a:stretch/>
          </p:blipFill>
          <p:spPr>
            <a:xfrm>
              <a:off x="609480" y="457200"/>
              <a:ext cx="7925040" cy="603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728640" y="530280"/>
              <a:ext cx="7686720" cy="57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300" spc="-1" strike="noStrike">
                <a:solidFill>
                  <a:srgbClr val="171b73"/>
                </a:solidFill>
                <a:latin typeface="Bodoni MT"/>
              </a:rPr>
              <a:t>Click to edit the title text format</a:t>
            </a: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457200" indent="-272880">
              <a:spcBef>
                <a:spcPts val="700"/>
              </a:spcBef>
              <a:buClr>
                <a:srgbClr val="ff8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58880" indent="-228600">
              <a:spcBef>
                <a:spcPts val="700"/>
              </a:spcBef>
              <a:buClr>
                <a:srgbClr val="804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31760" indent="-228600">
              <a:spcBef>
                <a:spcPts val="700"/>
              </a:spcBef>
              <a:buClr>
                <a:srgbClr val="c43d1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297080" indent="-228600">
              <a:spcBef>
                <a:spcPts val="700"/>
              </a:spcBef>
              <a:buClr>
                <a:srgbClr val="b42469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554120" indent="-228600">
              <a:spcBef>
                <a:spcPts val="700"/>
              </a:spcBef>
              <a:buClr>
                <a:srgbClr val="7b309b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554120" indent="-22860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554120" indent="-22860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62120" y="59594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889a7"/>
                </a:solidFill>
                <a:latin typeface="Verdana"/>
                <a:ea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889a7"/>
                </a:solidFill>
                <a:latin typeface="Verdana"/>
                <a:ea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59594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248520" y="59594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889a7"/>
                </a:solidFill>
                <a:latin typeface="Verdana"/>
                <a:ea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6E31A-A0C9-40F7-9012-D7C2CCEC3287}" type="slidenum">
              <a:rPr b="0" lang="en-US" sz="1000" spc="-1" strike="noStrike">
                <a:solidFill>
                  <a:srgbClr val="8889a7"/>
                </a:solidFill>
                <a:latin typeface="Verdana"/>
                <a:ea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ounded Rectangle 7"/>
          <p:cNvSpPr/>
          <p:nvPr/>
        </p:nvSpPr>
        <p:spPr>
          <a:xfrm>
            <a:off x="4740120" y="795240"/>
            <a:ext cx="3961080" cy="5294520"/>
          </a:xfrm>
          <a:custGeom>
            <a:avLst/>
            <a:gdLst>
              <a:gd name="textAreaLeft" fmla="*/ 41040 w 3961080"/>
              <a:gd name="textAreaRight" fmla="*/ 3920040 w 3961080"/>
              <a:gd name="textAreaTop" fmla="*/ 41040 h 5294520"/>
              <a:gd name="textAreaBottom" fmla="*/ 5253480 h 5294520"/>
            </a:gdLst>
            <a:ahLst/>
            <a:rect l="textAreaLeft" t="textAreaTop" r="textAreaRight" b="textAreaBottom"/>
            <a:pathLst>
              <a:path w="21600" h="28871">
                <a:moveTo>
                  <a:pt x="765" y="0"/>
                </a:moveTo>
                <a:arcTo wR="765" hR="765" stAng="16200000" swAng="-5400000"/>
                <a:lnTo>
                  <a:pt x="0" y="28106"/>
                </a:lnTo>
                <a:arcTo wR="765" hR="765" stAng="10800000" swAng="-5400000"/>
                <a:lnTo>
                  <a:pt x="20835" y="28871"/>
                </a:lnTo>
                <a:arcTo wR="765" hR="765" stAng="5400000" swAng="-5400000"/>
                <a:lnTo>
                  <a:pt x="21600" y="765"/>
                </a:lnTo>
                <a:arcTo wR="765" hR="765" stAng="0" swAng="-5400000"/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300" spc="-1" strike="noStrike">
                <a:solidFill>
                  <a:srgbClr val="171b73"/>
                </a:solidFill>
                <a:latin typeface="Bodoni MT"/>
              </a:rPr>
              <a:t>Click to edit the title text format</a:t>
            </a: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457200" indent="-272880">
              <a:spcBef>
                <a:spcPts val="700"/>
              </a:spcBef>
              <a:buClr>
                <a:srgbClr val="ff8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58880" indent="-228600">
              <a:spcBef>
                <a:spcPts val="700"/>
              </a:spcBef>
              <a:buClr>
                <a:srgbClr val="804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31760" indent="-228600">
              <a:spcBef>
                <a:spcPts val="700"/>
              </a:spcBef>
              <a:buClr>
                <a:srgbClr val="c43d1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297080" indent="-228600">
              <a:spcBef>
                <a:spcPts val="700"/>
              </a:spcBef>
              <a:buClr>
                <a:srgbClr val="b42469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554120" indent="-228600">
              <a:spcBef>
                <a:spcPts val="700"/>
              </a:spcBef>
              <a:buClr>
                <a:srgbClr val="7b309b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554120" indent="-22860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554120" indent="-22860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456840" y="6215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889a7"/>
                </a:solidFill>
                <a:latin typeface="Verdana"/>
                <a:ea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889a7"/>
                </a:solidFill>
                <a:latin typeface="Verdana"/>
                <a:ea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3124080" y="6215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6552720" y="6215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889a7"/>
                </a:solidFill>
                <a:latin typeface="Verdana"/>
                <a:ea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10E5A-4DE3-465F-A6B8-29B214088B30}" type="slidenum">
              <a:rPr b="0" lang="en-US" sz="1000" spc="-1" strike="noStrike">
                <a:solidFill>
                  <a:srgbClr val="8889a7"/>
                </a:solidFill>
                <a:latin typeface="Verdana"/>
                <a:ea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Title 4" descr=""/>
          <p:cNvPicPr/>
          <p:nvPr/>
        </p:nvPicPr>
        <p:blipFill>
          <a:blip r:embed="rId1"/>
          <a:stretch/>
        </p:blipFill>
        <p:spPr>
          <a:xfrm>
            <a:off x="914400" y="1292400"/>
            <a:ext cx="7772400" cy="31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Group 5"/>
          <p:cNvGrpSpPr/>
          <p:nvPr/>
        </p:nvGrpSpPr>
        <p:grpSpPr>
          <a:xfrm>
            <a:off x="2209680" y="2362320"/>
            <a:ext cx="4953240" cy="4267080"/>
            <a:chOff x="2209680" y="2362320"/>
            <a:chExt cx="4953240" cy="4267080"/>
          </a:xfrm>
        </p:grpSpPr>
        <p:pic>
          <p:nvPicPr>
            <p:cNvPr id="147" name="Picture 3" descr="models_atoms.png"/>
            <p:cNvPicPr/>
            <p:nvPr/>
          </p:nvPicPr>
          <p:blipFill>
            <a:blip r:embed="rId1"/>
            <a:srcRect l="0" t="51389" r="68638" b="0"/>
            <a:stretch/>
          </p:blipFill>
          <p:spPr>
            <a:xfrm>
              <a:off x="2209680" y="2362320"/>
              <a:ext cx="4953240" cy="426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TextBox 4"/>
            <p:cNvSpPr/>
            <p:nvPr/>
          </p:nvSpPr>
          <p:spPr>
            <a:xfrm>
              <a:off x="2457720" y="5295960"/>
              <a:ext cx="4303800" cy="947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Electron Cloud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ode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" name="TextBox 6"/>
          <p:cNvSpPr/>
          <p:nvPr/>
        </p:nvSpPr>
        <p:spPr>
          <a:xfrm>
            <a:off x="457200" y="304920"/>
            <a:ext cx="83818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buClr>
                <a:srgbClr val="ff9900"/>
              </a:buClr>
              <a:buSzPct val="95000"/>
              <a:buFont typeface="Verdana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latest model of the atom is called the ELECTRON CLOUD Model. Electrons are so small and fast that they move in a clou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Title 1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8229600" cy="11588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698400" indent="-514080">
              <a:spcBef>
                <a:spcPts val="799"/>
              </a:spcBef>
              <a:buClr>
                <a:srgbClr val="ff8000"/>
              </a:buClr>
              <a:buSzPct val="95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Verdana"/>
              </a:rPr>
              <a:t>ELEMENTS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– matter made up of only </a:t>
            </a:r>
            <a:r>
              <a:rPr b="1" i="1" lang="en-US" sz="3200" spc="-1" strike="noStrike">
                <a:solidFill>
                  <a:srgbClr val="000000"/>
                </a:solidFill>
                <a:latin typeface="Verdana"/>
              </a:rPr>
              <a:t>one kind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f atom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98400" indent="-514080">
              <a:spcBef>
                <a:spcPts val="799"/>
              </a:spcBef>
              <a:buClr>
                <a:srgbClr val="ff8000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re are approximately,115-118 known element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98400" indent="-514080">
              <a:spcBef>
                <a:spcPts val="601"/>
              </a:spcBef>
              <a:buClr>
                <a:srgbClr val="ff8000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re are 92 naturally occurring elements, plus synthetic elements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(made by scientists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Title 1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8229600" cy="115884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 txBox="1"/>
          <p:nvPr/>
        </p:nvSpPr>
        <p:spPr>
          <a:xfrm>
            <a:off x="456840" y="1599840"/>
            <a:ext cx="8381880" cy="48769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514440" indent="-514440">
              <a:spcBef>
                <a:spcPts val="799"/>
              </a:spcBef>
              <a:buClr>
                <a:srgbClr val="ff8000"/>
              </a:buClr>
              <a:buSzPct val="8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atte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is anything that has 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mass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takes up spac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799"/>
              </a:spcBef>
              <a:buClr>
                <a:srgbClr val="ff8000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tom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is the smallest particle that makes up most types of matter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799"/>
              </a:spcBef>
              <a:buClr>
                <a:srgbClr val="ff8000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avoisier introduced the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aw of conservation of matte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– matter is neither created nor destroyed, but only changes form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799"/>
              </a:spcBef>
              <a:buClr>
                <a:srgbClr val="ff8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Title 1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8229600" cy="115884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 txBox="1"/>
          <p:nvPr/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698400" indent="-514080">
              <a:spcBef>
                <a:spcPts val="799"/>
              </a:spcBef>
              <a:buClr>
                <a:srgbClr val="ff8000"/>
              </a:buClr>
              <a:buSzPct val="80000"/>
              <a:buFont typeface="Verdan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efore Lavoisier, people used to thing matter could appear and disappear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98400" indent="-514080">
              <a:spcBef>
                <a:spcPts val="799"/>
              </a:spcBef>
              <a:buClr>
                <a:srgbClr val="ff8000"/>
              </a:buClr>
              <a:buSzPct val="80000"/>
              <a:buFont typeface="Verdan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lton introduced an early atomic theory of matter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1000080" indent="-514440">
              <a:spcBef>
                <a:spcPts val="799"/>
              </a:spcBef>
              <a:buClr>
                <a:srgbClr val="804000"/>
              </a:buClr>
              <a:buFont typeface="Verdan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toms are too small to be seen by the human eye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1000080" indent="-514440">
              <a:spcBef>
                <a:spcPts val="799"/>
              </a:spcBef>
              <a:buClr>
                <a:srgbClr val="804000"/>
              </a:buClr>
              <a:buFont typeface="Verdan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ach type of matter is made of only one kind of atom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3" descr="models_atoms.png"/>
          <p:cNvPicPr/>
          <p:nvPr/>
        </p:nvPicPr>
        <p:blipFill>
          <a:blip r:embed="rId1"/>
          <a:srcRect l="0" t="0" r="69115" b="44979"/>
          <a:stretch/>
        </p:blipFill>
        <p:spPr>
          <a:xfrm>
            <a:off x="1828800" y="1066680"/>
            <a:ext cx="4876920" cy="449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Title 1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8229600" cy="115884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698400" indent="-514080">
              <a:spcBef>
                <a:spcPts val="799"/>
              </a:spcBef>
              <a:buClr>
                <a:srgbClr val="ff8000"/>
              </a:buClr>
              <a:buSzPct val="80000"/>
              <a:buFont typeface="Verdan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omson discovered that atoms are made of even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maller subatomic particles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98400" indent="-514080">
              <a:spcBef>
                <a:spcPts val="799"/>
              </a:spcBef>
              <a:buClr>
                <a:srgbClr val="ff8000"/>
              </a:buClr>
              <a:buSzPct val="80000"/>
              <a:buFont typeface="Verdan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lectrons are tiny, negatively charged particles with a measurable mas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98400" indent="-514080">
              <a:spcBef>
                <a:spcPts val="799"/>
              </a:spcBef>
              <a:buClr>
                <a:srgbClr val="ff8000"/>
              </a:buClr>
              <a:buSzPct val="80000"/>
              <a:buFont typeface="Verdan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e proposed that an atom has a ball of positive charge with electrons embedded in i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3" descr="models_atoms.png"/>
          <p:cNvPicPr/>
          <p:nvPr/>
        </p:nvPicPr>
        <p:blipFill>
          <a:blip r:embed="rId1"/>
          <a:srcRect l="28771" t="0" r="41995" b="48624"/>
          <a:stretch/>
        </p:blipFill>
        <p:spPr>
          <a:xfrm>
            <a:off x="2438280" y="1295280"/>
            <a:ext cx="4305600" cy="391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Title 1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8229600" cy="115884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 txBox="1"/>
          <p:nvPr/>
        </p:nvSpPr>
        <p:spPr>
          <a:xfrm>
            <a:off x="304920" y="160020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698400" indent="-514080">
              <a:spcBef>
                <a:spcPts val="799"/>
              </a:spcBef>
              <a:buClr>
                <a:srgbClr val="ff8000"/>
              </a:buClr>
              <a:buSzPct val="80000"/>
              <a:buFont typeface="Verdan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Rutherford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suggested a new model of the atom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98400" indent="-514080">
              <a:spcBef>
                <a:spcPts val="799"/>
              </a:spcBef>
              <a:buClr>
                <a:srgbClr val="ff8000"/>
              </a:buClr>
              <a:buSzPct val="80000"/>
              <a:buFont typeface="Verdan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central part of the atom was the positively charged </a:t>
            </a:r>
            <a:r>
              <a:rPr b="1" i="1" lang="en-US" sz="3200" spc="-1" strike="noStrike">
                <a:solidFill>
                  <a:srgbClr val="000000"/>
                </a:solidFill>
                <a:latin typeface="Verdana"/>
              </a:rPr>
              <a:t>NUCLEUS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98400" indent="-514080">
              <a:spcBef>
                <a:spcPts val="799"/>
              </a:spcBef>
              <a:buClr>
                <a:srgbClr val="ff8000"/>
              </a:buClr>
              <a:buSzPct val="80000"/>
              <a:buFont typeface="Verdan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positively charged particles in the nucleus were called </a:t>
            </a:r>
            <a:r>
              <a:rPr b="1" i="1" lang="en-US" sz="3200" spc="-1" strike="noStrike">
                <a:solidFill>
                  <a:srgbClr val="000000"/>
                </a:solidFill>
                <a:latin typeface="Verdana"/>
              </a:rPr>
              <a:t>PROTONS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98400" indent="-514080">
              <a:spcBef>
                <a:spcPts val="799"/>
              </a:spcBef>
              <a:buClr>
                <a:srgbClr val="ff8000"/>
              </a:buClr>
              <a:buSzPct val="80000"/>
              <a:buFont typeface="Verdan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Verdana"/>
              </a:rPr>
              <a:t>ELECTRONS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are scattered in the mostly empty space around the nucleu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4" descr="Atom"/>
          <p:cNvPicPr/>
          <p:nvPr/>
        </p:nvPicPr>
        <p:blipFill>
          <a:blip r:embed="rId1"/>
          <a:stretch/>
        </p:blipFill>
        <p:spPr>
          <a:xfrm>
            <a:off x="2362320" y="1676520"/>
            <a:ext cx="4343400" cy="4638600"/>
          </a:xfrm>
          <a:prstGeom prst="rect">
            <a:avLst/>
          </a:prstGeom>
          <a:ln w="0">
            <a:noFill/>
          </a:ln>
        </p:spPr>
      </p:pic>
      <p:sp>
        <p:nvSpPr>
          <p:cNvPr id="142" name="TextBox 2"/>
          <p:cNvSpPr/>
          <p:nvPr/>
        </p:nvSpPr>
        <p:spPr>
          <a:xfrm>
            <a:off x="533520" y="685800"/>
            <a:ext cx="8305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utherford’s Model of an ATOM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Title 1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8229600" cy="115884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 txBox="1"/>
          <p:nvPr/>
        </p:nvSpPr>
        <p:spPr>
          <a:xfrm>
            <a:off x="304920" y="1523880"/>
            <a:ext cx="8153280" cy="467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698400" indent="-514080">
              <a:spcBef>
                <a:spcPts val="700"/>
              </a:spcBef>
              <a:buClr>
                <a:srgbClr val="ff8000"/>
              </a:buClr>
              <a:buSzPct val="9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adwick introduced NEUTRONS particles as part of the nucleus that have NO charge. They are </a:t>
            </a:r>
            <a:r>
              <a:rPr b="1" i="1" lang="en-US" sz="2800" spc="-1" strike="noStrike">
                <a:solidFill>
                  <a:srgbClr val="000000"/>
                </a:solidFill>
                <a:latin typeface="Verdana"/>
              </a:rPr>
              <a:t>neutral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98400" indent="-514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5" name="Picture 2" descr="e_noyau.JPG"/>
          <p:cNvPicPr/>
          <p:nvPr/>
        </p:nvPicPr>
        <p:blipFill>
          <a:blip r:embed="rId2"/>
          <a:stretch/>
        </p:blipFill>
        <p:spPr>
          <a:xfrm>
            <a:off x="1981080" y="3429000"/>
            <a:ext cx="4724640" cy="28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3T01:45:55Z</dcterms:created>
  <dc:creator>Liz</dc:creator>
  <dc:description/>
  <dc:language>en-US</dc:language>
  <cp:lastModifiedBy>St. Aloysius</cp:lastModifiedBy>
  <dcterms:modified xsi:type="dcterms:W3CDTF">2014-02-12T17:30:27Z</dcterms:modified>
  <cp:revision>83</cp:revision>
  <dc:subject/>
  <dc:title>Slide 1</dc:title>
</cp:coreProperties>
</file>